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EDA-CE85-415A-838C-487286B5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5E6-C32C-4CB8-8D0A-E7A870EB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7F0-20E5-40AF-BB76-C17B9756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5BE-4A5E-4FEF-BAB4-B9A080F0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E51-1A23-4B7C-BB27-D9659207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0E32-4D01-4966-BDF7-58AEDD4D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5B5-FB2F-4393-BA6F-FB744671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A1E-2E22-4E2B-9401-FE7C2522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433-5F80-460B-AD21-2CC20743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7E4-E0D7-47C4-9AC7-936986AA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C8D-B245-4ED9-BF9E-421D9C04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4D8-175A-4793-B61E-8F5EC753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D69E-00BB-47A6-82BE-C37F2F4C40E7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nguaje Logo y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ción de polígo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e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duardo Paredes Bar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Cuál sería la formula para un polígono regular de n l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3851280" y="2276640"/>
            <a:ext cx="1657440" cy="1584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995640" y="4869000"/>
            <a:ext cx="1440000" cy="1439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971640" y="5013360"/>
            <a:ext cx="1439640" cy="1150920"/>
          </a:xfrm>
          <a:prstGeom prst="hexagon">
            <a:avLst>
              <a:gd name="adj" fmla="val 31272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7020000" y="2133720"/>
            <a:ext cx="1511280" cy="143964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826920" y="2205000"/>
            <a:ext cx="1584360" cy="1440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6300720" y="5013360"/>
            <a:ext cx="23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¿n lad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Conoc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NLAP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Ángulos Suplement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ángulos suplementario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son aquellos cuya suma de medidas es 180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5689800" cy="2673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62728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2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72436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484360" y="5877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= 180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ómo calcular los ángulos de giro de la Tortuga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 flipV="1">
            <a:off x="428472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851280" y="1413000"/>
            <a:ext cx="1292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AutoShape 7"/>
          <p:cNvSpPr/>
          <p:nvPr/>
        </p:nvSpPr>
        <p:spPr>
          <a:xfrm rot="19628400">
            <a:off x="3420720" y="2781360"/>
            <a:ext cx="3095640" cy="2376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rc 9"/>
          <p:cNvSpPr/>
          <p:nvPr/>
        </p:nvSpPr>
        <p:spPr>
          <a:xfrm flipV="1" rot="12379200">
            <a:off x="4284000" y="5300280"/>
            <a:ext cx="377640" cy="360360"/>
          </a:xfrm>
          <a:custGeom>
            <a:avLst/>
            <a:gdLst/>
            <a:ahLst/>
            <a:rect l="l" t="t" r="r" b="b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284720" y="3284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867280" y="4005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356000" y="501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14"/>
          <p:cNvSpPr/>
          <p:nvPr/>
        </p:nvSpPr>
        <p:spPr>
          <a:xfrm flipV="1" rot="5667000">
            <a:off x="6434640" y="4012560"/>
            <a:ext cx="377640" cy="360360"/>
          </a:xfrm>
          <a:custGeom>
            <a:avLst/>
            <a:gdLst/>
            <a:ahLst/>
            <a:rect l="l" t="t" r="r" b="b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15"/>
          <p:cNvSpPr/>
          <p:nvPr/>
        </p:nvSpPr>
        <p:spPr>
          <a:xfrm flipV="1" rot="19084800">
            <a:off x="4284360" y="2997360"/>
            <a:ext cx="377640" cy="360360"/>
          </a:xfrm>
          <a:custGeom>
            <a:avLst/>
            <a:gdLst/>
            <a:ahLst/>
            <a:rect l="l" t="t" r="r" b="b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16"/>
          <p:cNvSpPr/>
          <p:nvPr/>
        </p:nvSpPr>
        <p:spPr>
          <a:xfrm>
            <a:off x="4295880" y="2349360"/>
            <a:ext cx="1068120" cy="1073160"/>
          </a:xfrm>
          <a:custGeom>
            <a:avLst/>
            <a:gdLst/>
            <a:ahLst/>
            <a:rect l="l" t="t" r="r" b="b"/>
            <a:pathLst>
              <a:path fill="none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</a:path>
              <a:path stroke="0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  <a:lnTo>
                  <a:pt x="1301" y="21600"/>
                </a:lnTo>
                <a:lnTo>
                  <a:pt x="0" y="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5003640" y="2276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4284720" y="2924280"/>
            <a:ext cx="360036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rc 19"/>
          <p:cNvSpPr/>
          <p:nvPr/>
        </p:nvSpPr>
        <p:spPr>
          <a:xfrm rot="7493400">
            <a:off x="6198480" y="4011120"/>
            <a:ext cx="1222560" cy="1073160"/>
          </a:xfrm>
          <a:custGeom>
            <a:avLst/>
            <a:gdLst/>
            <a:ahLst/>
            <a:rect l="l" t="t" r="r" b="b"/>
            <a:pathLst>
              <a:path fill="none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</a:path>
              <a:path stroke="0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  <a:lnTo>
                  <a:pt x="4586" y="21600"/>
                </a:lnTo>
                <a:lnTo>
                  <a:pt x="0" y="4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6659640" y="5084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2700360" y="5516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3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H="1">
            <a:off x="3058920" y="4149720"/>
            <a:ext cx="3889080" cy="25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rc 24"/>
          <p:cNvSpPr/>
          <p:nvPr/>
        </p:nvSpPr>
        <p:spPr>
          <a:xfrm rot="15208800">
            <a:off x="3182760" y="4993560"/>
            <a:ext cx="1476360" cy="1073160"/>
          </a:xfrm>
          <a:custGeom>
            <a:avLst/>
            <a:gdLst/>
            <a:ahLst/>
            <a:rect l="l" t="t" r="r" b="b"/>
            <a:pathLst>
              <a:path fill="none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</a:path>
              <a:path stroke="0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  <a:lnTo>
                  <a:pt x="10020" y="21600"/>
                </a:lnTo>
                <a:lnTo>
                  <a:pt x="-1" y="246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395280" y="2060640"/>
            <a:ext cx="2521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1, A2 y A3, los ángulos suplementarios (a los ángulos interiores del triangulo) o ángulos de giro de la tortu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para el Triáng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10644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4140360" y="2708280"/>
            <a:ext cx="39909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¿Qué primitiv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se repit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¿Cuantas vec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38"/>
          <p:cNvSpPr/>
          <p:nvPr/>
        </p:nvSpPr>
        <p:spPr>
          <a:xfrm flipH="1">
            <a:off x="3203640" y="5805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 flipV="1">
            <a:off x="435600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3"/>
          <p:cNvSpPr/>
          <p:nvPr/>
        </p:nvSpPr>
        <p:spPr>
          <a:xfrm>
            <a:off x="4284720" y="314172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7093080" y="314172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ómo calcular los ángulos de giro de la Tortuga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3780000" y="1484280"/>
            <a:ext cx="1292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4716360" y="24922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596360" y="33577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6084720" y="6093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3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395280" y="2060640"/>
            <a:ext cx="2521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1, B2, B3 y B4, los ángulos suplementarios (a los ángulos interiores del cuadrado) o ángulos de giro de la tortu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4356000" y="3141720"/>
            <a:ext cx="2735280" cy="266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23"/>
          <p:cNvSpPr/>
          <p:nvPr/>
        </p:nvSpPr>
        <p:spPr>
          <a:xfrm flipV="1">
            <a:off x="4356000" y="3141720"/>
            <a:ext cx="287280" cy="28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27"/>
          <p:cNvSpPr/>
          <p:nvPr/>
        </p:nvSpPr>
        <p:spPr>
          <a:xfrm>
            <a:off x="4356000" y="5589720"/>
            <a:ext cx="21600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28"/>
          <p:cNvSpPr/>
          <p:nvPr/>
        </p:nvSpPr>
        <p:spPr>
          <a:xfrm flipH="1">
            <a:off x="6877080" y="5589720"/>
            <a:ext cx="21600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30"/>
          <p:cNvSpPr/>
          <p:nvPr/>
        </p:nvSpPr>
        <p:spPr>
          <a:xfrm flipH="1" flipV="1">
            <a:off x="6877080" y="3141720"/>
            <a:ext cx="21600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3203640" y="501336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4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32"/>
          <p:cNvSpPr/>
          <p:nvPr/>
        </p:nvSpPr>
        <p:spPr>
          <a:xfrm>
            <a:off x="4356000" y="2708280"/>
            <a:ext cx="503280" cy="433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35"/>
          <p:cNvSpPr/>
          <p:nvPr/>
        </p:nvSpPr>
        <p:spPr>
          <a:xfrm flipV="1">
            <a:off x="7093080" y="3141000"/>
            <a:ext cx="574560" cy="57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37"/>
          <p:cNvSpPr/>
          <p:nvPr/>
        </p:nvSpPr>
        <p:spPr>
          <a:xfrm flipH="1" flipV="1">
            <a:off x="6516000" y="5804640"/>
            <a:ext cx="57636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rc 40"/>
          <p:cNvSpPr/>
          <p:nvPr/>
        </p:nvSpPr>
        <p:spPr>
          <a:xfrm flipH="1">
            <a:off x="3635280" y="5084640"/>
            <a:ext cx="720720" cy="72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4356000" y="530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4427640" y="33577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6300720" y="3284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6443640" y="537372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para el Cuad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3311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4140360" y="2708280"/>
            <a:ext cx="39909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¿Qué primitiv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se repit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¿Cuantas vec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Qué está sucediendo?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Cuál es la raz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3700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mos los Ángulos de giro del Triangul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 + A2 + A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mos los Ángulos de giro del Cuadrad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 + B2 + B3 + B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AutoShape 19"/>
          <p:cNvSpPr/>
          <p:nvPr/>
        </p:nvSpPr>
        <p:spPr>
          <a:xfrm rot="16200000">
            <a:off x="2268360" y="2347560"/>
            <a:ext cx="503280" cy="2808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0"/>
          <p:cNvSpPr/>
          <p:nvPr/>
        </p:nvSpPr>
        <p:spPr>
          <a:xfrm rot="16200000">
            <a:off x="6372000" y="2131560"/>
            <a:ext cx="503280" cy="3240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1692360" y="4149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5940360" y="4149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476360" y="544500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Qué valor obtenemos en estas su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6:29:38Z</dcterms:created>
  <dc:creator>WinuE</dc:creator>
  <dc:description/>
  <dc:language>en-US</dc:language>
  <cp:lastModifiedBy>eddy portatil</cp:lastModifiedBy>
  <dcterms:modified xsi:type="dcterms:W3CDTF">2001-02-19T07:47:40Z</dcterms:modified>
  <cp:revision>10</cp:revision>
  <dc:subject/>
  <dc:title>Lenguaje Logo y Programación de polígonos</dc:title>
</cp:coreProperties>
</file>